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1"/>
          <p:cNvGrpSpPr/>
          <p:nvPr/>
        </p:nvGrpSpPr>
        <p:grpSpPr>
          <a:xfrm>
            <a:off x="0" y="3530160"/>
            <a:ext cx="9131400" cy="3315240"/>
            <a:chOff x="0" y="3530160"/>
            <a:chExt cx="9131400" cy="331524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30"/>
            <p:cNvGrpSpPr/>
            <p:nvPr/>
          </p:nvGrpSpPr>
          <p:grpSpPr>
            <a:xfrm>
              <a:off x="6400800" y="3530160"/>
              <a:ext cx="2631960" cy="3162600"/>
              <a:chOff x="6400800" y="3530160"/>
              <a:chExt cx="2631960" cy="3162600"/>
            </a:xfrm>
          </p:grpSpPr>
          <p:grpSp>
            <p:nvGrpSpPr>
              <p:cNvPr id="3" name="Group 8"/>
              <p:cNvGrpSpPr/>
              <p:nvPr/>
            </p:nvGrpSpPr>
            <p:grpSpPr>
              <a:xfrm>
                <a:off x="6746760" y="3530160"/>
                <a:ext cx="2286000" cy="3162600"/>
                <a:chOff x="6746760" y="3530160"/>
                <a:chExt cx="2286000" cy="3162600"/>
              </a:xfrm>
            </p:grpSpPr>
            <p:sp>
              <p:nvSpPr>
                <p:cNvPr id="4" name="Freeform 3"/>
                <p:cNvSpPr/>
                <p:nvPr/>
              </p:nvSpPr>
              <p:spPr>
                <a:xfrm>
                  <a:off x="6746760" y="3630600"/>
                  <a:ext cx="2286000" cy="2809800"/>
                </a:xfrm>
                <a:custGeom>
                  <a:avLst/>
                  <a:gdLst>
                    <a:gd name="textAreaLeft" fmla="*/ 0 w 2286000"/>
                    <a:gd name="textAreaRight" fmla="*/ 2286360 w 2286000"/>
                    <a:gd name="textAreaTop" fmla="*/ 0 h 2809800"/>
                    <a:gd name="textAreaBottom" fmla="*/ 2810160 h 2809800"/>
                  </a:gdLst>
                  <a:ahLst/>
                  <a:rect l="textAreaLeft" t="textAreaTop" r="textAreaRight" b="textAreaBottom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b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Line 4"/>
                <p:cNvSpPr/>
                <p:nvPr/>
              </p:nvSpPr>
              <p:spPr>
                <a:xfrm flipV="1">
                  <a:off x="6815160" y="5987520"/>
                  <a:ext cx="201600" cy="435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Line 5"/>
                <p:cNvSpPr/>
                <p:nvPr/>
              </p:nvSpPr>
              <p:spPr>
                <a:xfrm flipV="1">
                  <a:off x="8077320" y="3801600"/>
                  <a:ext cx="54000" cy="182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Line 6"/>
                <p:cNvSpPr/>
                <p:nvPr/>
              </p:nvSpPr>
              <p:spPr>
                <a:xfrm flipV="1">
                  <a:off x="8210520" y="3530160"/>
                  <a:ext cx="54000" cy="182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Freeform 7"/>
                <p:cNvSpPr/>
                <p:nvPr/>
              </p:nvSpPr>
              <p:spPr>
                <a:xfrm>
                  <a:off x="7054920" y="6450120"/>
                  <a:ext cx="1334880" cy="242640"/>
                </a:xfrm>
                <a:custGeom>
                  <a:avLst/>
                  <a:gdLst>
                    <a:gd name="textAreaLeft" fmla="*/ 0 w 1334880"/>
                    <a:gd name="textAreaRight" fmla="*/ 1335240 w 133488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1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" name="Group 29"/>
              <p:cNvGrpSpPr/>
              <p:nvPr/>
            </p:nvGrpSpPr>
            <p:grpSpPr>
              <a:xfrm>
                <a:off x="6400800" y="3825720"/>
                <a:ext cx="2376360" cy="2372040"/>
                <a:chOff x="6400800" y="3825720"/>
                <a:chExt cx="2376360" cy="2372040"/>
              </a:xfrm>
            </p:grpSpPr>
            <p:sp>
              <p:nvSpPr>
                <p:cNvPr id="10" name="Oval 9"/>
                <p:cNvSpPr/>
                <p:nvPr/>
              </p:nvSpPr>
              <p:spPr>
                <a:xfrm>
                  <a:off x="6400800" y="3825720"/>
                  <a:ext cx="2376360" cy="237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" name="Group 28"/>
                <p:cNvGrpSpPr/>
                <p:nvPr/>
              </p:nvGrpSpPr>
              <p:grpSpPr>
                <a:xfrm>
                  <a:off x="6400800" y="4073400"/>
                  <a:ext cx="2209680" cy="1760760"/>
                  <a:chOff x="6400800" y="4073400"/>
                  <a:chExt cx="2209680" cy="1760760"/>
                </a:xfrm>
              </p:grpSpPr>
              <p:sp>
                <p:nvSpPr>
                  <p:cNvPr id="12" name="Freeform 10"/>
                  <p:cNvSpPr/>
                  <p:nvPr/>
                </p:nvSpPr>
                <p:spPr>
                  <a:xfrm>
                    <a:off x="6713640" y="4718160"/>
                    <a:ext cx="1440" cy="2196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1" h="14">
                        <a:moveTo>
                          <a:pt x="0" y="0"/>
                        </a:move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1"/>
                  <p:cNvSpPr/>
                  <p:nvPr/>
                </p:nvSpPr>
                <p:spPr>
                  <a:xfrm>
                    <a:off x="6751800" y="4767120"/>
                    <a:ext cx="12600" cy="111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8" h="7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7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2"/>
                  <p:cNvSpPr/>
                  <p:nvPr/>
                </p:nvSpPr>
                <p:spPr>
                  <a:xfrm>
                    <a:off x="6878520" y="4702320"/>
                    <a:ext cx="81000" cy="75960"/>
                  </a:xfrm>
                  <a:custGeom>
                    <a:avLst/>
                    <a:gdLst>
                      <a:gd name="textAreaLeft" fmla="*/ 0 w 81000"/>
                      <a:gd name="textAreaRight" fmla="*/ 81360 w 81000"/>
                      <a:gd name="textAreaTop" fmla="*/ 0 h 75960"/>
                      <a:gd name="textAreaBottom" fmla="*/ 76320 h 75960"/>
                    </a:gdLst>
                    <a:ahLst/>
                    <a:rect l="textAreaLeft" t="textAreaTop" r="textAreaRight" b="textAreaBottom"/>
                    <a:pathLst>
                      <a:path w="51" h="48">
                        <a:moveTo>
                          <a:pt x="50" y="0"/>
                        </a:moveTo>
                        <a:lnTo>
                          <a:pt x="31" y="0"/>
                        </a:lnTo>
                        <a:lnTo>
                          <a:pt x="20" y="13"/>
                        </a:lnTo>
                        <a:lnTo>
                          <a:pt x="13" y="13"/>
                        </a:lnTo>
                        <a:lnTo>
                          <a:pt x="7" y="19"/>
                        </a:lnTo>
                        <a:lnTo>
                          <a:pt x="0" y="19"/>
                        </a:lnTo>
                        <a:lnTo>
                          <a:pt x="0" y="35"/>
                        </a:lnTo>
                        <a:lnTo>
                          <a:pt x="12" y="47"/>
                        </a:lnTo>
                        <a:lnTo>
                          <a:pt x="41" y="47"/>
                        </a:lnTo>
                        <a:lnTo>
                          <a:pt x="50" y="35"/>
                        </a:lnTo>
                        <a:lnTo>
                          <a:pt x="50" y="0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3"/>
                  <p:cNvSpPr/>
                  <p:nvPr/>
                </p:nvSpPr>
                <p:spPr>
                  <a:xfrm>
                    <a:off x="6400800" y="4762440"/>
                    <a:ext cx="716040" cy="932040"/>
                  </a:xfrm>
                  <a:custGeom>
                    <a:avLst/>
                    <a:gdLst>
                      <a:gd name="textAreaLeft" fmla="*/ 0 w 716040"/>
                      <a:gd name="textAreaRight" fmla="*/ 716040 w 716040"/>
                      <a:gd name="textAreaTop" fmla="*/ 0 h 932040"/>
                      <a:gd name="textAreaBottom" fmla="*/ 932400 h 932040"/>
                    </a:gdLst>
                    <a:ahLst/>
                    <a:rect l="textAreaLeft" t="textAreaTop" r="textAreaRight" b="textAreaBottom"/>
                    <a:pathLst>
                      <a:path w="451" h="587">
                        <a:moveTo>
                          <a:pt x="107" y="0"/>
                        </a:moveTo>
                        <a:lnTo>
                          <a:pt x="99" y="16"/>
                        </a:lnTo>
                        <a:lnTo>
                          <a:pt x="64" y="47"/>
                        </a:lnTo>
                        <a:lnTo>
                          <a:pt x="56" y="75"/>
                        </a:lnTo>
                        <a:lnTo>
                          <a:pt x="30" y="95"/>
                        </a:lnTo>
                        <a:lnTo>
                          <a:pt x="12" y="135"/>
                        </a:lnTo>
                        <a:lnTo>
                          <a:pt x="12" y="159"/>
                        </a:lnTo>
                        <a:lnTo>
                          <a:pt x="0" y="201"/>
                        </a:lnTo>
                        <a:lnTo>
                          <a:pt x="16" y="219"/>
                        </a:lnTo>
                        <a:lnTo>
                          <a:pt x="56" y="272"/>
                        </a:lnTo>
                        <a:lnTo>
                          <a:pt x="68" y="265"/>
                        </a:lnTo>
                        <a:lnTo>
                          <a:pt x="139" y="265"/>
                        </a:lnTo>
                        <a:lnTo>
                          <a:pt x="172" y="278"/>
                        </a:lnTo>
                        <a:lnTo>
                          <a:pt x="169" y="319"/>
                        </a:lnTo>
                        <a:lnTo>
                          <a:pt x="193" y="374"/>
                        </a:lnTo>
                        <a:lnTo>
                          <a:pt x="191" y="389"/>
                        </a:lnTo>
                        <a:lnTo>
                          <a:pt x="201" y="406"/>
                        </a:lnTo>
                        <a:lnTo>
                          <a:pt x="186" y="445"/>
                        </a:lnTo>
                        <a:lnTo>
                          <a:pt x="204" y="494"/>
                        </a:lnTo>
                        <a:lnTo>
                          <a:pt x="214" y="532"/>
                        </a:lnTo>
                        <a:lnTo>
                          <a:pt x="226" y="556"/>
                        </a:lnTo>
                        <a:lnTo>
                          <a:pt x="239" y="586"/>
                        </a:lnTo>
                        <a:lnTo>
                          <a:pt x="263" y="582"/>
                        </a:lnTo>
                        <a:lnTo>
                          <a:pt x="302" y="560"/>
                        </a:lnTo>
                        <a:lnTo>
                          <a:pt x="320" y="533"/>
                        </a:lnTo>
                        <a:lnTo>
                          <a:pt x="319" y="515"/>
                        </a:lnTo>
                        <a:lnTo>
                          <a:pt x="342" y="500"/>
                        </a:lnTo>
                        <a:lnTo>
                          <a:pt x="338" y="474"/>
                        </a:lnTo>
                        <a:lnTo>
                          <a:pt x="373" y="432"/>
                        </a:lnTo>
                        <a:lnTo>
                          <a:pt x="378" y="398"/>
                        </a:lnTo>
                        <a:lnTo>
                          <a:pt x="369" y="386"/>
                        </a:lnTo>
                        <a:lnTo>
                          <a:pt x="373" y="372"/>
                        </a:lnTo>
                        <a:lnTo>
                          <a:pt x="365" y="360"/>
                        </a:lnTo>
                        <a:lnTo>
                          <a:pt x="391" y="327"/>
                        </a:lnTo>
                        <a:lnTo>
                          <a:pt x="391" y="310"/>
                        </a:lnTo>
                        <a:lnTo>
                          <a:pt x="427" y="282"/>
                        </a:lnTo>
                        <a:lnTo>
                          <a:pt x="450" y="207"/>
                        </a:lnTo>
                        <a:lnTo>
                          <a:pt x="417" y="226"/>
                        </a:lnTo>
                        <a:lnTo>
                          <a:pt x="388" y="218"/>
                        </a:lnTo>
                        <a:lnTo>
                          <a:pt x="392" y="200"/>
                        </a:lnTo>
                        <a:lnTo>
                          <a:pt x="363" y="180"/>
                        </a:lnTo>
                        <a:lnTo>
                          <a:pt x="349" y="132"/>
                        </a:lnTo>
                        <a:lnTo>
                          <a:pt x="321" y="93"/>
                        </a:lnTo>
                        <a:lnTo>
                          <a:pt x="321" y="66"/>
                        </a:lnTo>
                        <a:lnTo>
                          <a:pt x="306" y="65"/>
                        </a:lnTo>
                        <a:lnTo>
                          <a:pt x="296" y="69"/>
                        </a:lnTo>
                        <a:lnTo>
                          <a:pt x="254" y="54"/>
                        </a:lnTo>
                        <a:lnTo>
                          <a:pt x="243" y="65"/>
                        </a:lnTo>
                        <a:lnTo>
                          <a:pt x="234" y="78"/>
                        </a:lnTo>
                        <a:lnTo>
                          <a:pt x="211" y="53"/>
                        </a:lnTo>
                        <a:lnTo>
                          <a:pt x="189" y="47"/>
                        </a:lnTo>
                        <a:lnTo>
                          <a:pt x="187" y="15"/>
                        </a:lnTo>
                        <a:lnTo>
                          <a:pt x="155" y="20"/>
                        </a:lnTo>
                        <a:lnTo>
                          <a:pt x="135" y="13"/>
                        </a:lnTo>
                        <a:lnTo>
                          <a:pt x="107" y="0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4"/>
                  <p:cNvSpPr/>
                  <p:nvPr/>
                </p:nvSpPr>
                <p:spPr>
                  <a:xfrm>
                    <a:off x="8053560" y="4995720"/>
                    <a:ext cx="26640" cy="44640"/>
                  </a:xfrm>
                  <a:custGeom>
                    <a:avLst/>
                    <a:gdLst>
                      <a:gd name="textAreaLeft" fmla="*/ 0 w 26640"/>
                      <a:gd name="textAreaRight" fmla="*/ 27000 w 266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17" h="28">
                        <a:moveTo>
                          <a:pt x="7" y="0"/>
                        </a:moveTo>
                        <a:lnTo>
                          <a:pt x="9" y="8"/>
                        </a:lnTo>
                        <a:lnTo>
                          <a:pt x="7" y="14"/>
                        </a:lnTo>
                        <a:lnTo>
                          <a:pt x="7" y="19"/>
                        </a:lnTo>
                        <a:lnTo>
                          <a:pt x="16" y="23"/>
                        </a:lnTo>
                        <a:lnTo>
                          <a:pt x="16" y="27"/>
                        </a:lnTo>
                        <a:lnTo>
                          <a:pt x="9" y="23"/>
                        </a:lnTo>
                        <a:lnTo>
                          <a:pt x="3" y="27"/>
                        </a:lnTo>
                        <a:lnTo>
                          <a:pt x="0" y="23"/>
                        </a:lnTo>
                        <a:lnTo>
                          <a:pt x="3" y="19"/>
                        </a:lnTo>
                        <a:lnTo>
                          <a:pt x="0" y="14"/>
                        </a:ln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5"/>
                  <p:cNvSpPr/>
                  <p:nvPr/>
                </p:nvSpPr>
                <p:spPr>
                  <a:xfrm>
                    <a:off x="7918560" y="5189400"/>
                    <a:ext cx="108000" cy="154080"/>
                  </a:xfrm>
                  <a:custGeom>
                    <a:avLst/>
                    <a:gdLst>
                      <a:gd name="textAreaLeft" fmla="*/ 0 w 108000"/>
                      <a:gd name="textAreaRight" fmla="*/ 108360 w 108000"/>
                      <a:gd name="textAreaTop" fmla="*/ 0 h 154080"/>
                      <a:gd name="textAreaBottom" fmla="*/ 154440 h 154080"/>
                    </a:gdLst>
                    <a:ahLst/>
                    <a:rect l="textAreaLeft" t="textAreaTop" r="textAreaRight" b="textAreaBottom"/>
                    <a:pathLst>
                      <a:path w="68" h="97">
                        <a:moveTo>
                          <a:pt x="0" y="48"/>
                        </a:moveTo>
                        <a:lnTo>
                          <a:pt x="24" y="48"/>
                        </a:lnTo>
                        <a:lnTo>
                          <a:pt x="52" y="0"/>
                        </a:lnTo>
                        <a:lnTo>
                          <a:pt x="67" y="28"/>
                        </a:lnTo>
                        <a:lnTo>
                          <a:pt x="55" y="96"/>
                        </a:lnTo>
                        <a:lnTo>
                          <a:pt x="5" y="80"/>
                        </a:lnTo>
                        <a:lnTo>
                          <a:pt x="0" y="48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6"/>
                  <p:cNvSpPr/>
                  <p:nvPr/>
                </p:nvSpPr>
                <p:spPr>
                  <a:xfrm>
                    <a:off x="8132760" y="5248440"/>
                    <a:ext cx="185760" cy="149040"/>
                  </a:xfrm>
                  <a:custGeom>
                    <a:avLst/>
                    <a:gdLst>
                      <a:gd name="textAreaLeft" fmla="*/ 0 w 185760"/>
                      <a:gd name="textAreaRight" fmla="*/ 186120 w 185760"/>
                      <a:gd name="textAreaTop" fmla="*/ 0 h 149040"/>
                      <a:gd name="textAreaBottom" fmla="*/ 149400 h 149040"/>
                    </a:gdLst>
                    <a:ahLst/>
                    <a:rect l="textAreaLeft" t="textAreaTop" r="textAreaRight" b="textAreaBottom"/>
                    <a:pathLst>
                      <a:path w="117" h="94">
                        <a:moveTo>
                          <a:pt x="7" y="22"/>
                        </a:moveTo>
                        <a:lnTo>
                          <a:pt x="0" y="0"/>
                        </a:lnTo>
                        <a:lnTo>
                          <a:pt x="39" y="9"/>
                        </a:lnTo>
                        <a:lnTo>
                          <a:pt x="95" y="32"/>
                        </a:lnTo>
                        <a:lnTo>
                          <a:pt x="95" y="49"/>
                        </a:lnTo>
                        <a:lnTo>
                          <a:pt x="116" y="93"/>
                        </a:lnTo>
                        <a:lnTo>
                          <a:pt x="73" y="51"/>
                        </a:lnTo>
                        <a:lnTo>
                          <a:pt x="44" y="54"/>
                        </a:lnTo>
                        <a:lnTo>
                          <a:pt x="7" y="22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17"/>
                  <p:cNvSpPr/>
                  <p:nvPr/>
                </p:nvSpPr>
                <p:spPr>
                  <a:xfrm>
                    <a:off x="8485200" y="5551560"/>
                    <a:ext cx="125280" cy="160200"/>
                  </a:xfrm>
                  <a:custGeom>
                    <a:avLst/>
                    <a:gdLst>
                      <a:gd name="textAreaLeft" fmla="*/ 0 w 125280"/>
                      <a:gd name="textAreaRight" fmla="*/ 125280 w 1252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79" h="101">
                        <a:moveTo>
                          <a:pt x="48" y="0"/>
                        </a:moveTo>
                        <a:lnTo>
                          <a:pt x="78" y="30"/>
                        </a:lnTo>
                        <a:lnTo>
                          <a:pt x="16" y="100"/>
                        </a:lnTo>
                        <a:lnTo>
                          <a:pt x="0" y="84"/>
                        </a:lnTo>
                        <a:lnTo>
                          <a:pt x="45" y="39"/>
                        </a:lnTo>
                        <a:lnTo>
                          <a:pt x="48" y="0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18"/>
                  <p:cNvSpPr/>
                  <p:nvPr/>
                </p:nvSpPr>
                <p:spPr>
                  <a:xfrm>
                    <a:off x="6622920" y="4462560"/>
                    <a:ext cx="61920" cy="104760"/>
                  </a:xfrm>
                  <a:custGeom>
                    <a:avLst/>
                    <a:gdLst>
                      <a:gd name="textAreaLeft" fmla="*/ 0 w 61920"/>
                      <a:gd name="textAreaRight" fmla="*/ 62280 w 6192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39" h="66">
                        <a:moveTo>
                          <a:pt x="38" y="51"/>
                        </a:moveTo>
                        <a:lnTo>
                          <a:pt x="28" y="43"/>
                        </a:lnTo>
                        <a:lnTo>
                          <a:pt x="28" y="14"/>
                        </a:lnTo>
                        <a:lnTo>
                          <a:pt x="33" y="8"/>
                        </a:lnTo>
                        <a:lnTo>
                          <a:pt x="24" y="8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4" y="9"/>
                        </a:lnTo>
                        <a:lnTo>
                          <a:pt x="14" y="27"/>
                        </a:lnTo>
                        <a:lnTo>
                          <a:pt x="18" y="31"/>
                        </a:lnTo>
                        <a:lnTo>
                          <a:pt x="18" y="39"/>
                        </a:lnTo>
                        <a:lnTo>
                          <a:pt x="16" y="39"/>
                        </a:lnTo>
                        <a:lnTo>
                          <a:pt x="9" y="46"/>
                        </a:lnTo>
                        <a:lnTo>
                          <a:pt x="9" y="53"/>
                        </a:lnTo>
                        <a:lnTo>
                          <a:pt x="0" y="65"/>
                        </a:lnTo>
                        <a:lnTo>
                          <a:pt x="29" y="65"/>
                        </a:lnTo>
                        <a:lnTo>
                          <a:pt x="38" y="51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19"/>
                  <p:cNvSpPr/>
                  <p:nvPr/>
                </p:nvSpPr>
                <p:spPr>
                  <a:xfrm>
                    <a:off x="6602400" y="4497480"/>
                    <a:ext cx="33480" cy="3816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21" h="24">
                        <a:moveTo>
                          <a:pt x="17" y="8"/>
                        </a:moveTo>
                        <a:lnTo>
                          <a:pt x="20" y="8"/>
                        </a:lnTo>
                        <a:lnTo>
                          <a:pt x="20" y="0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12" y="23"/>
                        </a:lnTo>
                        <a:lnTo>
                          <a:pt x="17" y="17"/>
                        </a:lnTo>
                        <a:lnTo>
                          <a:pt x="17" y="8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0"/>
                  <p:cNvSpPr/>
                  <p:nvPr/>
                </p:nvSpPr>
                <p:spPr>
                  <a:xfrm>
                    <a:off x="6553080" y="4435560"/>
                    <a:ext cx="406440" cy="342720"/>
                  </a:xfrm>
                  <a:custGeom>
                    <a:avLst/>
                    <a:gdLst>
                      <a:gd name="textAreaLeft" fmla="*/ 0 w 406440"/>
                      <a:gd name="textAreaRight" fmla="*/ 406800 w 406440"/>
                      <a:gd name="textAreaTop" fmla="*/ 0 h 342720"/>
                      <a:gd name="textAreaBottom" fmla="*/ 343080 h 342720"/>
                    </a:gdLst>
                    <a:ahLst/>
                    <a:rect l="textAreaLeft" t="textAreaTop" r="textAreaRight" b="textAreaBottom"/>
                    <a:pathLst>
                      <a:path w="256" h="216">
                        <a:moveTo>
                          <a:pt x="168" y="0"/>
                        </a:moveTo>
                        <a:lnTo>
                          <a:pt x="168" y="15"/>
                        </a:lnTo>
                        <a:lnTo>
                          <a:pt x="173" y="20"/>
                        </a:lnTo>
                        <a:lnTo>
                          <a:pt x="201" y="20"/>
                        </a:lnTo>
                        <a:lnTo>
                          <a:pt x="201" y="28"/>
                        </a:lnTo>
                        <a:lnTo>
                          <a:pt x="181" y="28"/>
                        </a:lnTo>
                        <a:lnTo>
                          <a:pt x="181" y="52"/>
                        </a:lnTo>
                        <a:lnTo>
                          <a:pt x="172" y="41"/>
                        </a:lnTo>
                        <a:lnTo>
                          <a:pt x="172" y="56"/>
                        </a:lnTo>
                        <a:lnTo>
                          <a:pt x="160" y="70"/>
                        </a:lnTo>
                        <a:lnTo>
                          <a:pt x="152" y="62"/>
                        </a:lnTo>
                        <a:lnTo>
                          <a:pt x="140" y="72"/>
                        </a:lnTo>
                        <a:lnTo>
                          <a:pt x="138" y="69"/>
                        </a:lnTo>
                        <a:lnTo>
                          <a:pt x="123" y="69"/>
                        </a:lnTo>
                        <a:lnTo>
                          <a:pt x="131" y="59"/>
                        </a:lnTo>
                        <a:lnTo>
                          <a:pt x="131" y="55"/>
                        </a:lnTo>
                        <a:lnTo>
                          <a:pt x="124" y="48"/>
                        </a:lnTo>
                        <a:lnTo>
                          <a:pt x="124" y="37"/>
                        </a:lnTo>
                        <a:lnTo>
                          <a:pt x="114" y="48"/>
                        </a:lnTo>
                        <a:lnTo>
                          <a:pt x="114" y="69"/>
                        </a:lnTo>
                        <a:lnTo>
                          <a:pt x="102" y="69"/>
                        </a:lnTo>
                        <a:lnTo>
                          <a:pt x="87" y="84"/>
                        </a:lnTo>
                        <a:lnTo>
                          <a:pt x="81" y="84"/>
                        </a:lnTo>
                        <a:lnTo>
                          <a:pt x="73" y="94"/>
                        </a:lnTo>
                        <a:lnTo>
                          <a:pt x="43" y="94"/>
                        </a:lnTo>
                        <a:lnTo>
                          <a:pt x="53" y="108"/>
                        </a:lnTo>
                        <a:lnTo>
                          <a:pt x="53" y="130"/>
                        </a:lnTo>
                        <a:lnTo>
                          <a:pt x="43" y="143"/>
                        </a:lnTo>
                        <a:lnTo>
                          <a:pt x="31" y="130"/>
                        </a:lnTo>
                        <a:lnTo>
                          <a:pt x="8" y="130"/>
                        </a:lnTo>
                        <a:lnTo>
                          <a:pt x="8" y="146"/>
                        </a:lnTo>
                        <a:lnTo>
                          <a:pt x="0" y="156"/>
                        </a:lnTo>
                        <a:lnTo>
                          <a:pt x="0" y="177"/>
                        </a:lnTo>
                        <a:lnTo>
                          <a:pt x="15" y="194"/>
                        </a:lnTo>
                        <a:lnTo>
                          <a:pt x="37" y="194"/>
                        </a:lnTo>
                        <a:lnTo>
                          <a:pt x="71" y="153"/>
                        </a:lnTo>
                        <a:lnTo>
                          <a:pt x="101" y="153"/>
                        </a:lnTo>
                        <a:lnTo>
                          <a:pt x="105" y="145"/>
                        </a:lnTo>
                        <a:lnTo>
                          <a:pt x="112" y="153"/>
                        </a:lnTo>
                        <a:lnTo>
                          <a:pt x="111" y="161"/>
                        </a:lnTo>
                        <a:lnTo>
                          <a:pt x="139" y="189"/>
                        </a:lnTo>
                        <a:lnTo>
                          <a:pt x="139" y="201"/>
                        </a:lnTo>
                        <a:lnTo>
                          <a:pt x="145" y="196"/>
                        </a:lnTo>
                        <a:lnTo>
                          <a:pt x="142" y="189"/>
                        </a:lnTo>
                        <a:lnTo>
                          <a:pt x="145" y="185"/>
                        </a:lnTo>
                        <a:lnTo>
                          <a:pt x="150" y="189"/>
                        </a:lnTo>
                        <a:lnTo>
                          <a:pt x="152" y="188"/>
                        </a:lnTo>
                        <a:lnTo>
                          <a:pt x="123" y="152"/>
                        </a:lnTo>
                        <a:lnTo>
                          <a:pt x="123" y="139"/>
                        </a:lnTo>
                        <a:lnTo>
                          <a:pt x="131" y="139"/>
                        </a:lnTo>
                        <a:lnTo>
                          <a:pt x="131" y="146"/>
                        </a:lnTo>
                        <a:lnTo>
                          <a:pt x="160" y="178"/>
                        </a:lnTo>
                        <a:lnTo>
                          <a:pt x="160" y="188"/>
                        </a:lnTo>
                        <a:lnTo>
                          <a:pt x="172" y="202"/>
                        </a:lnTo>
                        <a:lnTo>
                          <a:pt x="169" y="205"/>
                        </a:lnTo>
                        <a:lnTo>
                          <a:pt x="178" y="215"/>
                        </a:lnTo>
                        <a:lnTo>
                          <a:pt x="191" y="200"/>
                        </a:lnTo>
                        <a:lnTo>
                          <a:pt x="183" y="191"/>
                        </a:lnTo>
                        <a:lnTo>
                          <a:pt x="191" y="182"/>
                        </a:lnTo>
                        <a:lnTo>
                          <a:pt x="202" y="182"/>
                        </a:lnTo>
                        <a:lnTo>
                          <a:pt x="207" y="177"/>
                        </a:lnTo>
                        <a:lnTo>
                          <a:pt x="214" y="177"/>
                        </a:lnTo>
                        <a:lnTo>
                          <a:pt x="205" y="164"/>
                        </a:lnTo>
                        <a:lnTo>
                          <a:pt x="210" y="158"/>
                        </a:lnTo>
                        <a:lnTo>
                          <a:pt x="210" y="137"/>
                        </a:lnTo>
                        <a:lnTo>
                          <a:pt x="219" y="126"/>
                        </a:lnTo>
                        <a:lnTo>
                          <a:pt x="223" y="130"/>
                        </a:lnTo>
                        <a:lnTo>
                          <a:pt x="232" y="130"/>
                        </a:lnTo>
                        <a:lnTo>
                          <a:pt x="228" y="136"/>
                        </a:lnTo>
                        <a:lnTo>
                          <a:pt x="236" y="145"/>
                        </a:lnTo>
                        <a:lnTo>
                          <a:pt x="241" y="137"/>
                        </a:lnTo>
                        <a:lnTo>
                          <a:pt x="247" y="137"/>
                        </a:lnTo>
                        <a:lnTo>
                          <a:pt x="247" y="134"/>
                        </a:lnTo>
                        <a:lnTo>
                          <a:pt x="244" y="134"/>
                        </a:lnTo>
                        <a:lnTo>
                          <a:pt x="239" y="130"/>
                        </a:lnTo>
                        <a:lnTo>
                          <a:pt x="252" y="114"/>
                        </a:lnTo>
                        <a:lnTo>
                          <a:pt x="252" y="137"/>
                        </a:lnTo>
                        <a:lnTo>
                          <a:pt x="255" y="137"/>
                        </a:lnTo>
                        <a:lnTo>
                          <a:pt x="255" y="0"/>
                        </a:lnTo>
                        <a:lnTo>
                          <a:pt x="168" y="0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1"/>
                  <p:cNvSpPr/>
                  <p:nvPr/>
                </p:nvSpPr>
                <p:spPr>
                  <a:xfrm>
                    <a:off x="6726240" y="4073400"/>
                    <a:ext cx="1728720" cy="1220760"/>
                  </a:xfrm>
                  <a:custGeom>
                    <a:avLst/>
                    <a:gdLst>
                      <a:gd name="textAreaLeft" fmla="*/ 0 w 1728720"/>
                      <a:gd name="textAreaRight" fmla="*/ 1729080 w 1728720"/>
                      <a:gd name="textAreaTop" fmla="*/ 0 h 1220760"/>
                      <a:gd name="textAreaBottom" fmla="*/ 1220760 h 1220760"/>
                    </a:gdLst>
                    <a:ahLst/>
                    <a:rect l="textAreaLeft" t="textAreaTop" r="textAreaRight" b="textAreaBottom"/>
                    <a:pathLst>
                      <a:path w="1089" h="769">
                        <a:moveTo>
                          <a:pt x="0" y="226"/>
                        </a:moveTo>
                        <a:lnTo>
                          <a:pt x="32" y="202"/>
                        </a:lnTo>
                        <a:lnTo>
                          <a:pt x="62" y="156"/>
                        </a:lnTo>
                        <a:lnTo>
                          <a:pt x="99" y="134"/>
                        </a:lnTo>
                        <a:lnTo>
                          <a:pt x="137" y="160"/>
                        </a:lnTo>
                        <a:lnTo>
                          <a:pt x="142" y="181"/>
                        </a:lnTo>
                        <a:lnTo>
                          <a:pt x="133" y="181"/>
                        </a:lnTo>
                        <a:lnTo>
                          <a:pt x="118" y="179"/>
                        </a:lnTo>
                        <a:lnTo>
                          <a:pt x="137" y="202"/>
                        </a:lnTo>
                        <a:lnTo>
                          <a:pt x="216" y="172"/>
                        </a:lnTo>
                        <a:lnTo>
                          <a:pt x="206" y="149"/>
                        </a:lnTo>
                        <a:lnTo>
                          <a:pt x="240" y="110"/>
                        </a:lnTo>
                        <a:lnTo>
                          <a:pt x="262" y="111"/>
                        </a:lnTo>
                        <a:lnTo>
                          <a:pt x="241" y="124"/>
                        </a:lnTo>
                        <a:lnTo>
                          <a:pt x="223" y="153"/>
                        </a:lnTo>
                        <a:lnTo>
                          <a:pt x="223" y="172"/>
                        </a:lnTo>
                        <a:lnTo>
                          <a:pt x="255" y="193"/>
                        </a:lnTo>
                        <a:lnTo>
                          <a:pt x="301" y="133"/>
                        </a:lnTo>
                        <a:lnTo>
                          <a:pt x="461" y="63"/>
                        </a:lnTo>
                        <a:lnTo>
                          <a:pt x="460" y="23"/>
                        </a:lnTo>
                        <a:lnTo>
                          <a:pt x="533" y="8"/>
                        </a:lnTo>
                        <a:lnTo>
                          <a:pt x="574" y="29"/>
                        </a:lnTo>
                        <a:lnTo>
                          <a:pt x="671" y="0"/>
                        </a:lnTo>
                        <a:lnTo>
                          <a:pt x="701" y="15"/>
                        </a:lnTo>
                        <a:lnTo>
                          <a:pt x="766" y="85"/>
                        </a:lnTo>
                        <a:lnTo>
                          <a:pt x="840" y="71"/>
                        </a:lnTo>
                        <a:lnTo>
                          <a:pt x="886" y="96"/>
                        </a:lnTo>
                        <a:lnTo>
                          <a:pt x="1001" y="91"/>
                        </a:lnTo>
                        <a:lnTo>
                          <a:pt x="1088" y="118"/>
                        </a:lnTo>
                        <a:lnTo>
                          <a:pt x="1080" y="156"/>
                        </a:lnTo>
                        <a:lnTo>
                          <a:pt x="1006" y="181"/>
                        </a:lnTo>
                        <a:lnTo>
                          <a:pt x="1019" y="206"/>
                        </a:lnTo>
                        <a:lnTo>
                          <a:pt x="987" y="220"/>
                        </a:lnTo>
                        <a:lnTo>
                          <a:pt x="985" y="270"/>
                        </a:lnTo>
                        <a:lnTo>
                          <a:pt x="957" y="304"/>
                        </a:lnTo>
                        <a:lnTo>
                          <a:pt x="945" y="273"/>
                        </a:lnTo>
                        <a:lnTo>
                          <a:pt x="961" y="244"/>
                        </a:lnTo>
                        <a:lnTo>
                          <a:pt x="958" y="184"/>
                        </a:lnTo>
                        <a:lnTo>
                          <a:pt x="929" y="215"/>
                        </a:lnTo>
                        <a:lnTo>
                          <a:pt x="906" y="232"/>
                        </a:lnTo>
                        <a:lnTo>
                          <a:pt x="884" y="205"/>
                        </a:lnTo>
                        <a:lnTo>
                          <a:pt x="868" y="273"/>
                        </a:lnTo>
                        <a:lnTo>
                          <a:pt x="885" y="273"/>
                        </a:lnTo>
                        <a:lnTo>
                          <a:pt x="881" y="318"/>
                        </a:lnTo>
                        <a:lnTo>
                          <a:pt x="861" y="366"/>
                        </a:lnTo>
                        <a:lnTo>
                          <a:pt x="837" y="385"/>
                        </a:lnTo>
                        <a:lnTo>
                          <a:pt x="857" y="417"/>
                        </a:lnTo>
                        <a:lnTo>
                          <a:pt x="844" y="439"/>
                        </a:lnTo>
                        <a:lnTo>
                          <a:pt x="839" y="420"/>
                        </a:lnTo>
                        <a:lnTo>
                          <a:pt x="839" y="413"/>
                        </a:lnTo>
                        <a:lnTo>
                          <a:pt x="823" y="402"/>
                        </a:lnTo>
                        <a:lnTo>
                          <a:pt x="797" y="416"/>
                        </a:lnTo>
                        <a:lnTo>
                          <a:pt x="820" y="469"/>
                        </a:lnTo>
                        <a:lnTo>
                          <a:pt x="828" y="496"/>
                        </a:lnTo>
                        <a:lnTo>
                          <a:pt x="801" y="569"/>
                        </a:lnTo>
                        <a:lnTo>
                          <a:pt x="751" y="589"/>
                        </a:lnTo>
                        <a:lnTo>
                          <a:pt x="710" y="585"/>
                        </a:lnTo>
                        <a:lnTo>
                          <a:pt x="730" y="615"/>
                        </a:lnTo>
                        <a:lnTo>
                          <a:pt x="732" y="657"/>
                        </a:lnTo>
                        <a:lnTo>
                          <a:pt x="703" y="706"/>
                        </a:lnTo>
                        <a:lnTo>
                          <a:pt x="670" y="679"/>
                        </a:lnTo>
                        <a:lnTo>
                          <a:pt x="665" y="708"/>
                        </a:lnTo>
                        <a:lnTo>
                          <a:pt x="690" y="732"/>
                        </a:lnTo>
                        <a:lnTo>
                          <a:pt x="711" y="768"/>
                        </a:lnTo>
                        <a:lnTo>
                          <a:pt x="676" y="747"/>
                        </a:lnTo>
                        <a:lnTo>
                          <a:pt x="634" y="626"/>
                        </a:lnTo>
                        <a:lnTo>
                          <a:pt x="583" y="593"/>
                        </a:lnTo>
                        <a:lnTo>
                          <a:pt x="545" y="596"/>
                        </a:lnTo>
                        <a:lnTo>
                          <a:pt x="497" y="665"/>
                        </a:lnTo>
                        <a:lnTo>
                          <a:pt x="503" y="689"/>
                        </a:lnTo>
                        <a:lnTo>
                          <a:pt x="487" y="738"/>
                        </a:lnTo>
                        <a:lnTo>
                          <a:pt x="471" y="738"/>
                        </a:lnTo>
                        <a:lnTo>
                          <a:pt x="416" y="636"/>
                        </a:lnTo>
                        <a:lnTo>
                          <a:pt x="416" y="592"/>
                        </a:lnTo>
                        <a:lnTo>
                          <a:pt x="404" y="608"/>
                        </a:lnTo>
                        <a:lnTo>
                          <a:pt x="373" y="607"/>
                        </a:lnTo>
                        <a:lnTo>
                          <a:pt x="385" y="580"/>
                        </a:lnTo>
                        <a:lnTo>
                          <a:pt x="336" y="545"/>
                        </a:lnTo>
                        <a:lnTo>
                          <a:pt x="275" y="545"/>
                        </a:lnTo>
                        <a:lnTo>
                          <a:pt x="223" y="510"/>
                        </a:lnTo>
                        <a:lnTo>
                          <a:pt x="220" y="545"/>
                        </a:lnTo>
                        <a:lnTo>
                          <a:pt x="263" y="577"/>
                        </a:lnTo>
                        <a:lnTo>
                          <a:pt x="278" y="576"/>
                        </a:lnTo>
                        <a:lnTo>
                          <a:pt x="234" y="620"/>
                        </a:lnTo>
                        <a:lnTo>
                          <a:pt x="190" y="630"/>
                        </a:lnTo>
                        <a:lnTo>
                          <a:pt x="190" y="605"/>
                        </a:lnTo>
                        <a:lnTo>
                          <a:pt x="127" y="518"/>
                        </a:lnTo>
                        <a:lnTo>
                          <a:pt x="119" y="495"/>
                        </a:lnTo>
                        <a:lnTo>
                          <a:pt x="153" y="467"/>
                        </a:lnTo>
                        <a:lnTo>
                          <a:pt x="149" y="432"/>
                        </a:lnTo>
                        <a:lnTo>
                          <a:pt x="149" y="393"/>
                        </a:lnTo>
                        <a:lnTo>
                          <a:pt x="166" y="385"/>
                        </a:lnTo>
                        <a:lnTo>
                          <a:pt x="149" y="366"/>
                        </a:lnTo>
                        <a:lnTo>
                          <a:pt x="149" y="226"/>
                        </a:lnTo>
                        <a:lnTo>
                          <a:pt x="61" y="226"/>
                        </a:lnTo>
                        <a:lnTo>
                          <a:pt x="86" y="193"/>
                        </a:lnTo>
                        <a:lnTo>
                          <a:pt x="84" y="181"/>
                        </a:lnTo>
                        <a:lnTo>
                          <a:pt x="55" y="210"/>
                        </a:lnTo>
                        <a:lnTo>
                          <a:pt x="45" y="226"/>
                        </a:lnTo>
                        <a:lnTo>
                          <a:pt x="0" y="226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2"/>
                  <p:cNvSpPr/>
                  <p:nvPr/>
                </p:nvSpPr>
                <p:spPr>
                  <a:xfrm>
                    <a:off x="8089920" y="4572000"/>
                    <a:ext cx="149040" cy="249120"/>
                  </a:xfrm>
                  <a:custGeom>
                    <a:avLst/>
                    <a:gdLst>
                      <a:gd name="textAreaLeft" fmla="*/ 0 w 149040"/>
                      <a:gd name="textAreaRight" fmla="*/ 149400 w 149040"/>
                      <a:gd name="textAreaTop" fmla="*/ 0 h 249120"/>
                      <a:gd name="textAreaBottom" fmla="*/ 249480 h 249120"/>
                    </a:gdLst>
                    <a:ahLst/>
                    <a:rect l="textAreaLeft" t="textAreaTop" r="textAreaRight" b="textAreaBottom"/>
                    <a:pathLst>
                      <a:path w="94" h="157">
                        <a:moveTo>
                          <a:pt x="63" y="0"/>
                        </a:moveTo>
                        <a:lnTo>
                          <a:pt x="63" y="20"/>
                        </a:lnTo>
                        <a:lnTo>
                          <a:pt x="55" y="33"/>
                        </a:lnTo>
                        <a:lnTo>
                          <a:pt x="57" y="54"/>
                        </a:lnTo>
                        <a:lnTo>
                          <a:pt x="47" y="82"/>
                        </a:lnTo>
                        <a:lnTo>
                          <a:pt x="31" y="108"/>
                        </a:lnTo>
                        <a:lnTo>
                          <a:pt x="7" y="125"/>
                        </a:lnTo>
                        <a:lnTo>
                          <a:pt x="0" y="154"/>
                        </a:lnTo>
                        <a:lnTo>
                          <a:pt x="10" y="156"/>
                        </a:lnTo>
                        <a:lnTo>
                          <a:pt x="10" y="129"/>
                        </a:lnTo>
                        <a:lnTo>
                          <a:pt x="44" y="127"/>
                        </a:lnTo>
                        <a:lnTo>
                          <a:pt x="69" y="109"/>
                        </a:lnTo>
                        <a:lnTo>
                          <a:pt x="69" y="72"/>
                        </a:lnTo>
                        <a:lnTo>
                          <a:pt x="77" y="58"/>
                        </a:lnTo>
                        <a:lnTo>
                          <a:pt x="64" y="34"/>
                        </a:lnTo>
                        <a:lnTo>
                          <a:pt x="82" y="27"/>
                        </a:lnTo>
                        <a:lnTo>
                          <a:pt x="93" y="8"/>
                        </a:lnTo>
                        <a:lnTo>
                          <a:pt x="69" y="11"/>
                        </a:lnTo>
                        <a:lnTo>
                          <a:pt x="63" y="0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3"/>
                  <p:cNvSpPr/>
                  <p:nvPr/>
                </p:nvSpPr>
                <p:spPr>
                  <a:xfrm>
                    <a:off x="7526160" y="5237280"/>
                    <a:ext cx="30240" cy="568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19" h="36">
                        <a:moveTo>
                          <a:pt x="9" y="0"/>
                        </a:moveTo>
                        <a:lnTo>
                          <a:pt x="0" y="16"/>
                        </a:lnTo>
                        <a:lnTo>
                          <a:pt x="6" y="35"/>
                        </a:lnTo>
                        <a:lnTo>
                          <a:pt x="18" y="21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4"/>
                  <p:cNvSpPr/>
                  <p:nvPr/>
                </p:nvSpPr>
                <p:spPr>
                  <a:xfrm>
                    <a:off x="7753320" y="5297400"/>
                    <a:ext cx="349200" cy="149400"/>
                  </a:xfrm>
                  <a:custGeom>
                    <a:avLst/>
                    <a:gdLst>
                      <a:gd name="textAreaLeft" fmla="*/ 0 w 349200"/>
                      <a:gd name="textAreaRight" fmla="*/ 349560 w 349200"/>
                      <a:gd name="textAreaTop" fmla="*/ 0 h 149400"/>
                      <a:gd name="textAreaBottom" fmla="*/ 149760 h 149400"/>
                    </a:gdLst>
                    <a:ahLst/>
                    <a:rect l="textAreaLeft" t="textAreaTop" r="textAreaRight" b="textAreaBottom"/>
                    <a:pathLst>
                      <a:path w="220" h="94">
                        <a:moveTo>
                          <a:pt x="0" y="0"/>
                        </a:moveTo>
                        <a:lnTo>
                          <a:pt x="33" y="7"/>
                        </a:lnTo>
                        <a:lnTo>
                          <a:pt x="82" y="41"/>
                        </a:lnTo>
                        <a:lnTo>
                          <a:pt x="75" y="60"/>
                        </a:lnTo>
                        <a:lnTo>
                          <a:pt x="115" y="77"/>
                        </a:lnTo>
                        <a:lnTo>
                          <a:pt x="219" y="77"/>
                        </a:lnTo>
                        <a:lnTo>
                          <a:pt x="106" y="93"/>
                        </a:lnTo>
                        <a:lnTo>
                          <a:pt x="75" y="60"/>
                        </a:lnTo>
                        <a:lnTo>
                          <a:pt x="46" y="5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5"/>
                  <p:cNvSpPr/>
                  <p:nvPr/>
                </p:nvSpPr>
                <p:spPr>
                  <a:xfrm>
                    <a:off x="8031240" y="5421240"/>
                    <a:ext cx="374400" cy="351000"/>
                  </a:xfrm>
                  <a:custGeom>
                    <a:avLst/>
                    <a:gdLst>
                      <a:gd name="textAreaLeft" fmla="*/ 0 w 374400"/>
                      <a:gd name="textAreaRight" fmla="*/ 374760 w 374400"/>
                      <a:gd name="textAreaTop" fmla="*/ 0 h 351000"/>
                      <a:gd name="textAreaBottom" fmla="*/ 351360 h 351000"/>
                    </a:gdLst>
                    <a:ahLst/>
                    <a:rect l="textAreaLeft" t="textAreaTop" r="textAreaRight" b="textAreaBottom"/>
                    <a:pathLst>
                      <a:path w="236" h="221">
                        <a:moveTo>
                          <a:pt x="196" y="215"/>
                        </a:moveTo>
                        <a:lnTo>
                          <a:pt x="190" y="216"/>
                        </a:lnTo>
                        <a:lnTo>
                          <a:pt x="185" y="220"/>
                        </a:lnTo>
                        <a:lnTo>
                          <a:pt x="179" y="212"/>
                        </a:lnTo>
                        <a:lnTo>
                          <a:pt x="158" y="202"/>
                        </a:lnTo>
                        <a:lnTo>
                          <a:pt x="154" y="187"/>
                        </a:lnTo>
                        <a:lnTo>
                          <a:pt x="147" y="182"/>
                        </a:lnTo>
                        <a:lnTo>
                          <a:pt x="130" y="182"/>
                        </a:lnTo>
                        <a:lnTo>
                          <a:pt x="130" y="170"/>
                        </a:lnTo>
                        <a:lnTo>
                          <a:pt x="124" y="167"/>
                        </a:lnTo>
                        <a:lnTo>
                          <a:pt x="123" y="157"/>
                        </a:lnTo>
                        <a:lnTo>
                          <a:pt x="110" y="155"/>
                        </a:lnTo>
                        <a:lnTo>
                          <a:pt x="98" y="152"/>
                        </a:lnTo>
                        <a:lnTo>
                          <a:pt x="87" y="155"/>
                        </a:lnTo>
                        <a:lnTo>
                          <a:pt x="87" y="157"/>
                        </a:lnTo>
                        <a:lnTo>
                          <a:pt x="62" y="165"/>
                        </a:lnTo>
                        <a:lnTo>
                          <a:pt x="62" y="169"/>
                        </a:lnTo>
                        <a:lnTo>
                          <a:pt x="40" y="169"/>
                        </a:lnTo>
                        <a:lnTo>
                          <a:pt x="28" y="176"/>
                        </a:lnTo>
                        <a:lnTo>
                          <a:pt x="15" y="169"/>
                        </a:lnTo>
                        <a:lnTo>
                          <a:pt x="14" y="167"/>
                        </a:lnTo>
                        <a:lnTo>
                          <a:pt x="14" y="152"/>
                        </a:lnTo>
                        <a:lnTo>
                          <a:pt x="10" y="139"/>
                        </a:lnTo>
                        <a:lnTo>
                          <a:pt x="5" y="127"/>
                        </a:lnTo>
                        <a:lnTo>
                          <a:pt x="8" y="118"/>
                        </a:lnTo>
                        <a:lnTo>
                          <a:pt x="3" y="114"/>
                        </a:lnTo>
                        <a:lnTo>
                          <a:pt x="0" y="93"/>
                        </a:lnTo>
                        <a:lnTo>
                          <a:pt x="3" y="79"/>
                        </a:lnTo>
                        <a:lnTo>
                          <a:pt x="16" y="68"/>
                        </a:lnTo>
                        <a:lnTo>
                          <a:pt x="44" y="60"/>
                        </a:lnTo>
                        <a:lnTo>
                          <a:pt x="51" y="51"/>
                        </a:lnTo>
                        <a:lnTo>
                          <a:pt x="48" y="41"/>
                        </a:lnTo>
                        <a:lnTo>
                          <a:pt x="55" y="38"/>
                        </a:lnTo>
                        <a:lnTo>
                          <a:pt x="57" y="43"/>
                        </a:lnTo>
                        <a:lnTo>
                          <a:pt x="60" y="35"/>
                        </a:lnTo>
                        <a:lnTo>
                          <a:pt x="77" y="22"/>
                        </a:lnTo>
                        <a:lnTo>
                          <a:pt x="87" y="28"/>
                        </a:lnTo>
                        <a:lnTo>
                          <a:pt x="98" y="25"/>
                        </a:lnTo>
                        <a:lnTo>
                          <a:pt x="102" y="13"/>
                        </a:lnTo>
                        <a:lnTo>
                          <a:pt x="113" y="10"/>
                        </a:lnTo>
                        <a:lnTo>
                          <a:pt x="110" y="2"/>
                        </a:lnTo>
                        <a:lnTo>
                          <a:pt x="125" y="8"/>
                        </a:lnTo>
                        <a:lnTo>
                          <a:pt x="138" y="5"/>
                        </a:lnTo>
                        <a:lnTo>
                          <a:pt x="145" y="34"/>
                        </a:lnTo>
                        <a:lnTo>
                          <a:pt x="154" y="43"/>
                        </a:lnTo>
                        <a:lnTo>
                          <a:pt x="163" y="43"/>
                        </a:lnTo>
                        <a:lnTo>
                          <a:pt x="167" y="25"/>
                        </a:lnTo>
                        <a:lnTo>
                          <a:pt x="165" y="16"/>
                        </a:lnTo>
                        <a:lnTo>
                          <a:pt x="167" y="2"/>
                        </a:lnTo>
                        <a:lnTo>
                          <a:pt x="172" y="0"/>
                        </a:lnTo>
                        <a:lnTo>
                          <a:pt x="179" y="18"/>
                        </a:lnTo>
                        <a:lnTo>
                          <a:pt x="185" y="22"/>
                        </a:lnTo>
                        <a:lnTo>
                          <a:pt x="189" y="38"/>
                        </a:lnTo>
                        <a:lnTo>
                          <a:pt x="196" y="60"/>
                        </a:lnTo>
                        <a:lnTo>
                          <a:pt x="206" y="66"/>
                        </a:lnTo>
                        <a:lnTo>
                          <a:pt x="219" y="83"/>
                        </a:lnTo>
                        <a:lnTo>
                          <a:pt x="221" y="91"/>
                        </a:lnTo>
                        <a:lnTo>
                          <a:pt x="232" y="101"/>
                        </a:lnTo>
                        <a:lnTo>
                          <a:pt x="235" y="119"/>
                        </a:lnTo>
                        <a:lnTo>
                          <a:pt x="235" y="133"/>
                        </a:lnTo>
                        <a:lnTo>
                          <a:pt x="232" y="155"/>
                        </a:lnTo>
                        <a:lnTo>
                          <a:pt x="221" y="169"/>
                        </a:lnTo>
                        <a:lnTo>
                          <a:pt x="217" y="187"/>
                        </a:lnTo>
                        <a:lnTo>
                          <a:pt x="217" y="202"/>
                        </a:lnTo>
                        <a:lnTo>
                          <a:pt x="206" y="205"/>
                        </a:lnTo>
                        <a:lnTo>
                          <a:pt x="196" y="215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6"/>
                  <p:cNvSpPr/>
                  <p:nvPr/>
                </p:nvSpPr>
                <p:spPr>
                  <a:xfrm>
                    <a:off x="8329680" y="5791320"/>
                    <a:ext cx="28440" cy="4284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8" h="27">
                        <a:moveTo>
                          <a:pt x="9" y="23"/>
                        </a:moveTo>
                        <a:lnTo>
                          <a:pt x="3" y="19"/>
                        </a:lnTo>
                        <a:lnTo>
                          <a:pt x="3" y="15"/>
                        </a:lnTo>
                        <a:lnTo>
                          <a:pt x="3" y="11"/>
                        </a:lnTo>
                        <a:lnTo>
                          <a:pt x="2" y="7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9" y="4"/>
                        </a:lnTo>
                        <a:lnTo>
                          <a:pt x="12" y="3"/>
                        </a:lnTo>
                        <a:lnTo>
                          <a:pt x="13" y="3"/>
                        </a:lnTo>
                        <a:lnTo>
                          <a:pt x="17" y="0"/>
                        </a:lnTo>
                        <a:lnTo>
                          <a:pt x="17" y="11"/>
                        </a:lnTo>
                        <a:lnTo>
                          <a:pt x="15" y="15"/>
                        </a:lnTo>
                        <a:lnTo>
                          <a:pt x="13" y="19"/>
                        </a:lnTo>
                        <a:lnTo>
                          <a:pt x="13" y="22"/>
                        </a:lnTo>
                        <a:lnTo>
                          <a:pt x="12" y="23"/>
                        </a:lnTo>
                        <a:lnTo>
                          <a:pt x="12" y="26"/>
                        </a:lnTo>
                        <a:lnTo>
                          <a:pt x="9" y="23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27"/>
                  <p:cNvSpPr/>
                  <p:nvPr/>
                </p:nvSpPr>
                <p:spPr>
                  <a:xfrm>
                    <a:off x="7023240" y="5389560"/>
                    <a:ext cx="41040" cy="16812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6" h="106">
                        <a:moveTo>
                          <a:pt x="3" y="37"/>
                        </a:moveTo>
                        <a:lnTo>
                          <a:pt x="13" y="28"/>
                        </a:lnTo>
                        <a:lnTo>
                          <a:pt x="20" y="0"/>
                        </a:lnTo>
                        <a:lnTo>
                          <a:pt x="25" y="42"/>
                        </a:lnTo>
                        <a:lnTo>
                          <a:pt x="17" y="94"/>
                        </a:lnTo>
                        <a:lnTo>
                          <a:pt x="0" y="105"/>
                        </a:lnTo>
                        <a:lnTo>
                          <a:pt x="0" y="80"/>
                        </a:lnTo>
                        <a:lnTo>
                          <a:pt x="5" y="64"/>
                        </a:lnTo>
                        <a:lnTo>
                          <a:pt x="3" y="37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0" name="PlaceHolder 1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7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ff00"/>
                </a:solidFill>
                <a:uFillTx/>
                <a:latin typeface="Times New Roman"/>
              </a:rPr>
              <a:t>BENIGNI I MALIGNI TUMORI TELA MATER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f</a:t>
            </a: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r</a:t>
            </a: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Zoran Protr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UZROCI MENOMETRORAGIJE KOD MIOMA UTERUS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ove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ć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na povr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š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a endometriju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iperestrogenemija - hiperplazija endometriju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manjena kontraktilnost uter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manjena kontraktilnost spiralnih arteriola u lamini bazal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enska sta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DIJAGNOZ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KLINIČKI PREGL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ULTRAZVUČNI PREGL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EXPL. KITRETAŽ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HS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HISTEROSKOPIJ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ff00"/>
                </a:solidFill>
                <a:latin typeface="Times New Roman"/>
              </a:rPr>
              <a:t>SEKUNDARNE PROMEN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ff00"/>
                </a:solidFill>
                <a:uFillTx/>
                <a:latin typeface="Times New Roman"/>
              </a:rPr>
              <a:t>KALCIFIKACIJ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ff00"/>
                </a:solidFill>
                <a:uFillTx/>
                <a:latin typeface="Times New Roman"/>
              </a:rPr>
              <a:t>INFEKCIJA I SUPURACIJ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EKROZ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ff00"/>
                </a:solidFill>
                <a:uFillTx/>
                <a:latin typeface="Times New Roman"/>
              </a:rPr>
              <a:t>DEGENERACIJA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Latn-CS" sz="4400" spc="-1" strike="noStrike">
                <a:solidFill>
                  <a:srgbClr val="66ff33"/>
                </a:solidFill>
                <a:latin typeface="Times New Roman"/>
              </a:rPr>
              <a:t>(HIJALINA, HIDROPSNA, MIKSOIDNA, CISTIČNA, MASNA, CRVENA I SARKOMATOZNA)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ff00"/>
                </a:solidFill>
                <a:latin typeface="Times New Roman"/>
              </a:rPr>
              <a:t>MIOM I TRUDNOĆA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DO PRE POJAVE UZ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0,3 – 2,0 % SLUČ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VEĆINA PROĐE ASIMTOPMATSK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DIJAGNOZA ZAVISI OD VELIČINE I LOKALIZACIJ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STEPEN KLINIČKE DETEKCIJE SE KREĆE O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66ff33"/>
                </a:solidFill>
                <a:latin typeface="Times New Roman"/>
              </a:rPr>
              <a:t>12,5 % ZA MIOME DO 3 CM 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66ff33"/>
                </a:solidFill>
                <a:latin typeface="Times New Roman"/>
              </a:rPr>
              <a:t>80% ZA VEĆE (PREKO 10 CM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UTICAJ TRUDNOĆE NA MI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DA LI TOKOM TRUDNOĆE </a:t>
            </a:r>
            <a:r>
              <a:rPr b="1" lang="sr-Latn-CS" sz="3600" spc="-1" strike="noStrike" u="sng">
                <a:solidFill>
                  <a:srgbClr val="ffff00"/>
                </a:solidFill>
                <a:uFillTx/>
                <a:latin typeface="Times New Roman"/>
              </a:rPr>
              <a:t>RASTU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ff00"/>
                </a:solidFill>
                <a:uFillTx/>
                <a:latin typeface="Times New Roman"/>
              </a:rPr>
              <a:t>OBLIK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SE MENJA OD SFERE DO IZDUŽENE ELIPSE (MERENJE ZAPR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RAST JE HORMONSKI USLOVLJ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sr-Latn-CS" sz="3600" spc="-1" strike="noStrike" u="sng">
                <a:solidFill>
                  <a:srgbClr val="66ff33"/>
                </a:solidFill>
                <a:uFillTx/>
                <a:latin typeface="Times New Roman"/>
              </a:rPr>
              <a:t>ESTROGENSKI</a:t>
            </a:r>
            <a:r>
              <a:rPr b="1" i="1" lang="sr-Latn-CS" sz="3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RECEPTOR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* </a:t>
            </a:r>
            <a:r>
              <a:rPr b="1" i="1" lang="sr-Latn-CS" sz="3600" spc="-1" strike="noStrike" u="sng">
                <a:solidFill>
                  <a:srgbClr val="66ff33"/>
                </a:solidFill>
                <a:uFillTx/>
                <a:latin typeface="Times New Roman"/>
              </a:rPr>
              <a:t>PROGESTERON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MOŽE DA UTIČE NA VEL. IZAZIVAJUĆI DEGENER. PR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ffff00"/>
                </a:solidFill>
                <a:latin typeface="Times New Roman"/>
              </a:rPr>
              <a:t>MIOMI I INFERTILITE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UZROKUJU OBSTR. TUBE, CERVIK. KANALA, PROMINIRAJU U KAVUM, REMETE KONTRAKTILNOST , DEJSTVO NA ENDOMETRIJUM IT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MIOMEKTOMIJA PER SE NIJE ČEST UZROK INFERTILITETA (2,4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MIOMI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S.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POBAČAJI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I PREV. PORODJAJI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66ff33"/>
                </a:solidFill>
                <a:uFillTx/>
                <a:latin typeface="Times New Roman"/>
              </a:rPr>
              <a:t>ČEŠĆI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1. KADA JE PLACENTA U KONTAKTU SA MIOMOM  (26% PREMA 2%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2. KADA JE MIOM LOKALIZOVAN U KORPUSU (8,8 PREMA 2%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2 DO 10 PUTA VEĆA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INCIDENCA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PREV. PORODJAJA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(ZA VEĆE MIO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TAKODJE BITNA LOKALIZ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(KONTAKT SA POSTELJICOM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ffff00"/>
                </a:solidFill>
                <a:latin typeface="Times New Roman"/>
              </a:rPr>
              <a:t>MIOMI I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PORODJAJ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100"/>
                </a:solidFill>
                <a:uFillTx/>
                <a:latin typeface="Times New Roman"/>
              </a:rPr>
              <a:t>	</a:t>
            </a:r>
            <a:r>
              <a:rPr b="1" lang="sr-Latn-CS" sz="4000" spc="-1" strike="noStrike" u="sng">
                <a:solidFill>
                  <a:srgbClr val="ff0100"/>
                </a:solidFill>
                <a:uFillTx/>
                <a:latin typeface="Times New Roman"/>
              </a:rPr>
              <a:t>PORODJAJ:</a:t>
            </a:r>
            <a:r>
              <a:rPr b="1" lang="sr-Latn-CS" sz="4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KOMLIKOVAN ZBOG SLABIH KONTRAKCIJA I INERCIJE UTER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KARLIČNA PREZ. I POPREČNI </a:t>
            </a:r>
            <a:r>
              <a:rPr b="1" i="1" lang="sr-Latn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2 DO 8 PUTA ČEŠĆ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VISOK % CARSKOG REZA (40% vs 17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NEMA KORISTI OD MIOMEKTOM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TOKOM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C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- TEŽE ZARASTA, INFEK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(OPŠTE MIŠLJENJ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ffff00"/>
                </a:solidFill>
                <a:latin typeface="Times New Roman"/>
              </a:rPr>
              <a:t>MIOMI I PUERPERIJUM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DHERENTNA POSTELJICA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(odsustvo norm. endometrijuma na insercij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OSPARATALNE HEMORAGIJE (33%)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; nekad potrebna laparotomij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OSTPART. ENDOMETRITISI I FEBRILNA STANJA (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kod nekrotičnih submukoznih miom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ffff00"/>
                </a:solidFill>
                <a:latin typeface="Times New Roman"/>
              </a:rPr>
              <a:t>MIOMI I TRUDNOĆA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66ff33"/>
                </a:solidFill>
                <a:uFillTx/>
                <a:latin typeface="Times New Roman"/>
              </a:rPr>
              <a:t>KADA MIOMEKTOMIJA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*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VELIKI MIO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*  EKSPANZIVAN R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* INFEKCIJA, NEKROZA, TORZ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* UGROŽAVANJE TOKA TRUDNOĆ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**** VAŽNA PREOPERATIV.  EVALUACIJA POLOŽAJA,  MOGUĆIH RIZIKA ZA PA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**** HIRURŠKI : NE OTVORITI  KAVUM, 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LEDIRATI  POSTELJICU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(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TOKOLITICI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67680" cy="1295280"/>
          </a:xfrm>
          <a:prstGeom prst="rect">
            <a:avLst/>
          </a:prstGeom>
          <a:noFill/>
          <a:ln w="0">
            <a:noFill/>
          </a:ln>
          <a:effectLst>
            <a:outerShdw dist="148236" dir="3540742" blurRad="0" rotWithShape="0">
              <a:srgbClr val="ff01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_New_Roman"/>
              </a:rPr>
              <a:t>MIOMI UTERUSA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YU L Swiss"/>
              </a:rPr>
              <a:t>* 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NAJ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Č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E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ŠĆ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I SOLIDNI TU MALE KARL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* U 20-30% 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Ž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* U 1/3 SU TEGOBE IZRA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Ž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* U SAD GODI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Š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NJE 200.000 HISTEREKT. I 20.000 MIOMEKTOM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OD OSTALIH BENIGNIH TU NAJ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Č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E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ŠĆ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I 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_New_Roman"/>
              </a:rPr>
              <a:t>ADENOMATOZNI POLIPI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 (CA U POLIPU - 0,36%-DOBRA PROGNOZ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UNICELULARNO POREKLO (PSEU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KAPSUL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ffff00"/>
                </a:solidFill>
                <a:latin typeface="Times New Roman"/>
              </a:rPr>
              <a:t>MIOMI I KANCE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EJOMIOSARKOMI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– 1,3% SVIH MALIGNITETA UTER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GO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ŠNJA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INCIDENCA – 0,7 NA 100.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INCIDENCA KOD PAC. SA MIOMIMA JE 0,3 DO 0,7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NESLAGANJA OKO TOGA DA LI MOGU NASTATI IZ MIOMA ILI SUI GENER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REOPER. SE ČESTO SMATRA BENIGNIM ZBOG SLIČNIH SIMPTOM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1. BOL U MAL. KARLICI  2. ABNORMALNO KRVAVLJENJE  3. TU MASE U KARLI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ffff00"/>
                </a:solidFill>
                <a:latin typeface="Times New Roman"/>
              </a:rPr>
              <a:t>MIOMI I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MALIGNITE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ff00"/>
                </a:solidFill>
                <a:uFillTx/>
                <a:latin typeface="Times New Roman"/>
              </a:rPr>
              <a:t>LEJOMIOSARKOMI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– SLIČNI SIMPT. ALI VIŠE LIČE NA ONE KOD CA E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ff33"/>
                </a:solidFill>
                <a:latin typeface="Times New Roman"/>
              </a:rPr>
              <a:t>POSUMNJATI KADA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1. RAPIDNO UVEĆANJE U POSTMENO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2.  ŠIRENJE TU MASA KROZ CERVI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ff33"/>
                </a:solidFill>
                <a:latin typeface="Times New Roman"/>
              </a:rPr>
              <a:t>DG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– Anamneza, pregled, HISTOLOŠKA, UZ, 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ff33"/>
                </a:solidFill>
                <a:latin typeface="Times New Roman"/>
              </a:rPr>
              <a:t>STADIRANJE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ISTO KAO KOD CA E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DELA SARKO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48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0"/>
                </a:solidFill>
                <a:latin typeface="Times New Roman"/>
              </a:rPr>
              <a:t>LEIOMIOSAR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0"/>
                </a:solidFill>
                <a:latin typeface="Times New Roman"/>
              </a:rPr>
              <a:t>SARCOMA STROMAE ENDOMETR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0"/>
                </a:solidFill>
                <a:latin typeface="Times New Roman"/>
              </a:rPr>
              <a:t>MESOVITI </a:t>
            </a:r>
            <a:r>
              <a:rPr b="0" lang="sr-Latn-RS" sz="3200" spc="-1" strike="noStrike">
                <a:solidFill>
                  <a:srgbClr val="ff01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100"/>
                </a:solidFill>
                <a:latin typeface="Times New Roman"/>
              </a:rPr>
              <a:t>MILEROVI (CARCINOSACO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0"/>
                </a:solidFill>
                <a:latin typeface="Times New Roman"/>
              </a:rPr>
              <a:t>LIMFO, RETIKULO, ANGIO I OSTALI SARCO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TERAPIJA SARCOMA UTER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VENSTVENO HIRURŠKA – TAH B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SA ILI BEZ PELV. LIMFADENEK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BRZ RAST I METASTAZE (OKOLNIH ORGANA ALI I UDALJENE – PLUĆ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BRZ RECIDIV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Č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K 50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LATIVNO NEOSETLJIV NA RADIOTERAPIJ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MIOTEARAPIJA KOD UDALJENIH METASTA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(GORNJE PARTIJE ABDOMENA, PLUĆA, KOST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HIRURŠKA TERAPIJA MIO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Times New Roman"/>
              </a:rPr>
              <a:t>NAJVAŽNIJ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sr-Latn-CS" sz="3600" spc="-1" strike="noStrike">
                <a:solidFill>
                  <a:srgbClr val="ffff00"/>
                </a:solidFill>
                <a:latin typeface="Times New Roman"/>
              </a:rPr>
              <a:t> (najčešće 3. decenij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MIOMEKTOMIJA</a:t>
            </a:r>
            <a:r>
              <a:rPr b="1" lang="sr-Latn-C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kod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mladih, infertilni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s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učestalim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krvavljenjima, veći i multipli miomi)</a:t>
            </a:r>
            <a:r>
              <a:rPr b="1" lang="sr-Latn-C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HISTEREKTOMIJA</a:t>
            </a:r>
            <a:r>
              <a:rPr b="1" lang="sr-Latn-C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kod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starijih, sa završenom repr. funkcijom, ogromnih mioma, profuzna krvavljenja, sumnja na sarkom it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600" spc="-1" strike="noStrike">
                <a:solidFill>
                  <a:srgbClr val="ff0100"/>
                </a:solidFill>
                <a:latin typeface="Times New Roman"/>
              </a:rPr>
              <a:t>PUT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sr-Latn-C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BDOMINALNI, VAGINALNI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sr-Latn-CS" sz="3600" spc="-1" strike="noStrike" u="sng">
                <a:solidFill>
                  <a:srgbClr val="ffff00"/>
                </a:solidFill>
                <a:uFillTx/>
                <a:latin typeface="Times New Roman"/>
              </a:rPr>
              <a:t>LAPAROSKOPSKI, HISTEROSKOPSK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DIKAMENTNI TRETMAN MIO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AVREMENI PRISTUP LEČENJA OBUHVATA OVU TH. KAO SAMOSTALNU ILI DOPUNSKU HIRURŠK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100"/>
                </a:solidFill>
                <a:uFillTx/>
                <a:latin typeface="Times New Roman"/>
              </a:rPr>
              <a:t>TRETMAN ANALOZIMA GNR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KLINIČKI NAJPODOBNIJ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POESTROGENIJA OGRANIČAVA OVU TH. NA KRATKOTRAJNU ILI PRIMARNU HIR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DATNA TH.</a:t>
            </a:r>
            <a:r>
              <a:rPr b="0" lang="sr-Latn-R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EROIDIMA I NESTEROID. AGENSIMA OMOGUĆAVA DUGOTRAJN.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ONZERVATIVNI TRETMAN MIOMA UTERU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1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gesteron i progestage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strinon - antiestrogen/ antiprogeste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anazol - antigonadotrop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ETIOLOGIJA MIOMA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_New_Roman"/>
              </a:rPr>
              <a:t>ULOGA MUTACIJA SOMATSKIH </a:t>
            </a:r>
            <a:r>
              <a:rPr b="1" lang="sr-Latn-RS" sz="3200" spc="-1" strike="noStrike" u="sng">
                <a:solidFill>
                  <a:srgbClr val="66ff33"/>
                </a:solidFill>
                <a:uFillTx/>
                <a:latin typeface="Times_New_Roman"/>
              </a:rPr>
              <a:t>ĆELIJA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 MIOMETRIJUMA (</a:t>
            </a:r>
            <a:r>
              <a:rPr b="1" lang="sr-Latn-RS" sz="3200" spc="-1" strike="noStrike">
                <a:solidFill>
                  <a:srgbClr val="ffff00"/>
                </a:solidFill>
                <a:latin typeface="Times_New_Roman"/>
              </a:rPr>
              <a:t>NEOPHODNA SERIJA GREŠAKA U GENOMU)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MOGU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Ć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A 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_New_Roman"/>
              </a:rPr>
              <a:t>URODJENA GENSKA ABNORM</a:t>
            </a:r>
            <a:r>
              <a:rPr b="1" lang="en-US" sz="3200" spc="-1" strike="noStrike">
                <a:solidFill>
                  <a:srgbClr val="66ff33"/>
                </a:solidFill>
                <a:latin typeface="Times_New_Roman"/>
              </a:rPr>
              <a:t>.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 (MULTIPLI MIOMI  PO </a:t>
            </a:r>
            <a:r>
              <a:rPr b="1" lang="sr-Latn-RS" sz="3200" spc="-1" strike="noStrike">
                <a:solidFill>
                  <a:srgbClr val="ffff00"/>
                </a:solidFill>
                <a:latin typeface="Times_New_Roman"/>
              </a:rPr>
              <a:t>ŽENSKOJ LINIJI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LEIOMYOSARCOMI IZ MIOMA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 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_New_Roman"/>
              </a:rPr>
              <a:t>ESTROGEN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-PROMOTIVNI AGENS ZA NASTANAK (ULOGA I </a:t>
            </a:r>
            <a:r>
              <a:rPr b="1" lang="en-US" sz="3200" spc="-1" strike="noStrike">
                <a:solidFill>
                  <a:srgbClr val="ff0100"/>
                </a:solidFill>
                <a:latin typeface="Times_New_Roman"/>
              </a:rPr>
              <a:t>PROGESTERONA ?</a:t>
            </a:r>
            <a:r>
              <a:rPr b="1" lang="sr-Latn-RS" sz="3200" spc="-1" strike="noStrike">
                <a:solidFill>
                  <a:srgbClr val="ffff00"/>
                </a:solidFill>
                <a:latin typeface="Times_New_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ffff00"/>
                </a:solidFill>
                <a:latin typeface="Times_New_Roman"/>
              </a:rPr>
              <a:t>POVIŠENE TKIVNE  KONCENTRACIJ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ffff00"/>
                </a:solidFill>
                <a:latin typeface="Times_New_Roman"/>
              </a:rPr>
              <a:t>SERUMSKE NE -SMANJENA KONVERZ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ETIOLOGIJA MIOMA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4476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_New_Roman"/>
              </a:rPr>
              <a:t>PRISUSTVO ESTROGENA NEOPHODNO ZA RAST MIOMA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 (DOKAZI : RAST TOKOM TRUDNO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Ć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E I REGRESIJA I MENOPAUZ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ALI NIJE JEDINI U PATOGENEZI (</a:t>
            </a:r>
            <a:r>
              <a:rPr b="1" lang="sr-Latn-RS" sz="3200" spc="-1" strike="noStrike">
                <a:solidFill>
                  <a:srgbClr val="ffff00"/>
                </a:solidFill>
                <a:latin typeface="Times_New_Roman"/>
              </a:rPr>
              <a:t>HORMON RASTA, VEĆE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 </a:t>
            </a:r>
            <a:r>
              <a:rPr b="1" lang="sr-Latn-RS" sz="3200" spc="-1" strike="noStrike">
                <a:solidFill>
                  <a:srgbClr val="ffff00"/>
                </a:solidFill>
                <a:latin typeface="Times_New_Roman"/>
              </a:rPr>
              <a:t>SER. KON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MEHANIZAM STIMUL. JE</a:t>
            </a:r>
            <a:r>
              <a:rPr b="1" lang="sr-Latn-RS" sz="3200" spc="-1" strike="noStrike">
                <a:solidFill>
                  <a:srgbClr val="ffff00"/>
                </a:solidFill>
                <a:latin typeface="Times_New_Roman"/>
              </a:rPr>
              <a:t> I 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PREKO LOKALNIH FAKTORA RASTA</a:t>
            </a:r>
            <a:r>
              <a:rPr b="1" lang="sr-Latn-RS" sz="3200" spc="-1" strike="noStrike">
                <a:solidFill>
                  <a:srgbClr val="ffff00"/>
                </a:solidFill>
                <a:latin typeface="Times_New_Roman"/>
              </a:rPr>
              <a:t> (EGF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ffff00"/>
                </a:solidFill>
                <a:latin typeface="Times_New_Roman"/>
              </a:rPr>
              <a:t>   </a:t>
            </a:r>
            <a:r>
              <a:rPr b="1" lang="sr-Latn-RS" sz="3200" spc="-1" strike="noStrike">
                <a:solidFill>
                  <a:srgbClr val="ffff00"/>
                </a:solidFill>
                <a:latin typeface="Times_New_Roman"/>
              </a:rPr>
              <a:t>INSULINU SLIČAN FAKTOR RAS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100"/>
                </a:solidFill>
                <a:latin typeface="Times_New_Roman"/>
              </a:rPr>
              <a:t>PROGESTERON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 INHIBIRA ILI STIMULI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Š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E RAST MIOMA ?  - RAZL</a:t>
            </a:r>
            <a:r>
              <a:rPr b="1" lang="sr-Latn-RS" sz="3200" spc="-1" strike="noStrike">
                <a:solidFill>
                  <a:srgbClr val="ffff00"/>
                </a:solidFill>
                <a:latin typeface="Times_New_Roman"/>
              </a:rPr>
              <a:t>IČITE 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 STUD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EPIDEMIOLOGIJA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8991360" cy="4781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INCIDENCA HISTEREKT. ZBOG MIOMA JE 8/1000 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Ž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ENA GODI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Š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MAX OKO 45. GOD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SA 65 G. SE SMANJUJE NA O,5 SLU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Č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AJE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U TRUDNICA U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Č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ESTALOST &lt; 5% (TE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Ž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E IH OTKRITI </a:t>
            </a:r>
            <a:r>
              <a:rPr b="1" lang="sr-Latn-RS" sz="3200" spc="-1" strike="noStrike">
                <a:solidFill>
                  <a:srgbClr val="ffff00"/>
                </a:solidFill>
                <a:latin typeface="Times_New_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ffff00"/>
                </a:solidFill>
                <a:latin typeface="Times_New_Roman"/>
              </a:rPr>
              <a:t>ČEŠĆE SE JAVLJA U ODREĐENIM PORODIC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PIDEMIOLOGIJA MIO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IŽI RIZIK POVEZAN SA VEĆIM PARITETOM, FIZ. AKTIVNOŠĆU, PUŠENJEM I NIŽOM TEL. MAS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VE OVO UKAZUJE NA UTICAJ VEĆEG</a:t>
            </a:r>
            <a:r>
              <a:rPr b="1" lang="sr-Latn-R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IVOA ESTROGENA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Z PROGEST</a:t>
            </a:r>
            <a:r>
              <a:rPr b="1" lang="sr-Latn-RS" sz="3200" spc="-1" strike="noStrike">
                <a:solidFill>
                  <a:srgbClr val="ff0000"/>
                </a:solidFill>
                <a:latin typeface="Times New Roman"/>
              </a:rPr>
              <a:t>ERONA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) NA RAST MI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ffff00"/>
                </a:solidFill>
                <a:latin typeface="Times_New_Roman"/>
              </a:rPr>
              <a:t>LOKALIZACIJA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067680" cy="4781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33"/>
                </a:solidFill>
                <a:uFillTx/>
                <a:latin typeface="Times_New_Roman"/>
              </a:rPr>
              <a:t>1. CERVIKALNI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  (ZADNJI ZID, VE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ĆI  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HIRUR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Š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KI PROBLEM )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 - U OKO 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33"/>
                </a:solidFill>
                <a:uFillTx/>
                <a:latin typeface="Times_New_Roman"/>
              </a:rPr>
              <a:t>2. KORPORAL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_New_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_New_Roman"/>
              </a:rPr>
              <a:t>SUBMUKOZNI (U KONTAKTU SA ENDOMETR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_New_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_New_Roman"/>
              </a:rPr>
              <a:t>INTRAMURAL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_New_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_New_Roman"/>
              </a:rPr>
              <a:t>SUBSEROZNI  ( SITNI ZRNASTI ILI PEDUNKULARN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_New_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100"/>
                </a:solidFill>
                <a:latin typeface="Times_New_Roman"/>
              </a:rPr>
              <a:t>INTRALIGAMENTARNI </a:t>
            </a:r>
            <a:r>
              <a:rPr b="1" lang="en-US" sz="2800" spc="-1" strike="noStrike">
                <a:solidFill>
                  <a:srgbClr val="ffff00"/>
                </a:solidFill>
                <a:latin typeface="Times_New_Roman"/>
              </a:rPr>
              <a:t>( U </a:t>
            </a:r>
            <a:r>
              <a:rPr b="1" lang="sr-Latn-CS" sz="2800" spc="-1" strike="noStrike">
                <a:solidFill>
                  <a:srgbClr val="ffff00"/>
                </a:solidFill>
                <a:latin typeface="Times_New_Roman"/>
              </a:rPr>
              <a:t>Š</a:t>
            </a:r>
            <a:r>
              <a:rPr b="1" lang="en-US" sz="2800" spc="-1" strike="noStrike">
                <a:solidFill>
                  <a:srgbClr val="ffff00"/>
                </a:solidFill>
                <a:latin typeface="Times_New_Roman"/>
              </a:rPr>
              <a:t>IROKE MAT. VEZ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_New_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_New_Roman"/>
              </a:rPr>
              <a:t> </a:t>
            </a:r>
            <a:r>
              <a:rPr b="1" lang="en-US" sz="2800" spc="-1" strike="noStrike">
                <a:solidFill>
                  <a:srgbClr val="ff0100"/>
                </a:solidFill>
                <a:latin typeface="Times_New_Roman"/>
              </a:rPr>
              <a:t>MYOMA NASCENS</a:t>
            </a:r>
            <a:r>
              <a:rPr b="1" lang="en-US" sz="2800" spc="-1" strike="noStrike">
                <a:solidFill>
                  <a:srgbClr val="ffff00"/>
                </a:solidFill>
                <a:latin typeface="Times_New_Roman"/>
              </a:rPr>
              <a:t> (PEDUNKULAR. SUBMUK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_New_Roman"/>
              </a:rPr>
              <a:t>PATOLOGIJA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424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33"/>
                </a:solidFill>
                <a:uFillTx/>
                <a:latin typeface="Times_New_Roman"/>
              </a:rPr>
              <a:t>HISTOGENEZA : 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POREKLA MI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Š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I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Ć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NOG TKIVA A NE FIBOZNIH TK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33"/>
                </a:solidFill>
                <a:uFillTx/>
                <a:latin typeface="Times_New_Roman"/>
              </a:rPr>
              <a:t>MAKROSKOPSKI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 : UGLAVNOM </a:t>
            </a:r>
            <a:r>
              <a:rPr b="1" lang="sr-Latn-CS" sz="3200" spc="-1" strike="noStrike">
                <a:solidFill>
                  <a:srgbClr val="ffffff"/>
                </a:solidFill>
                <a:latin typeface="Times_New_Roman"/>
              </a:rPr>
              <a:t>Č</a:t>
            </a:r>
            <a:r>
              <a:rPr b="1" lang="en-US" sz="3200" spc="-1" strike="noStrike">
                <a:solidFill>
                  <a:srgbClr val="ffffff"/>
                </a:solidFill>
                <a:latin typeface="Times_New_Roman"/>
              </a:rPr>
              <a:t>VRSTI 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(KOD KALCIFIK. - RETKO KOD DRUGIH DEGENER.) - </a:t>
            </a:r>
            <a:r>
              <a:rPr b="1" lang="en-US" sz="3200" spc="-1" strike="noStrike">
                <a:solidFill>
                  <a:srgbClr val="ffffff"/>
                </a:solidFill>
                <a:latin typeface="Times_New_Roman"/>
              </a:rPr>
              <a:t>MEK</a:t>
            </a:r>
            <a:r>
              <a:rPr b="1" lang="sr-Latn-CS" sz="3200" spc="-1" strike="noStrike">
                <a:solidFill>
                  <a:srgbClr val="ffffff"/>
                </a:solidFill>
                <a:latin typeface="Times_New_Roman"/>
              </a:rPr>
              <a:t>Š</a:t>
            </a:r>
            <a:r>
              <a:rPr b="1" lang="en-US" sz="3200" spc="-1" strike="noStrike">
                <a:solidFill>
                  <a:srgbClr val="ffffff"/>
                </a:solidFill>
                <a:latin typeface="Times_New_Roman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  (NEMAJU KAPSULU, ALI SU ODVOJENI PSEUDOKAPS. SLOJEM - LAK</a:t>
            </a:r>
            <a:r>
              <a:rPr b="1" lang="sr-Latn-CS" sz="3200" spc="-1" strike="noStrike">
                <a:solidFill>
                  <a:srgbClr val="ffff00"/>
                </a:solidFill>
                <a:latin typeface="Times_New_Roman"/>
              </a:rPr>
              <a:t>Š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A ENUKL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imes_New_Roman"/>
              </a:rPr>
              <a:t>MIKROSKOPSKI</a:t>
            </a:r>
            <a:r>
              <a:rPr b="1" lang="en-US" sz="3200" spc="-1" strike="noStrike">
                <a:solidFill>
                  <a:srgbClr val="ffff00"/>
                </a:solidFill>
                <a:latin typeface="Times_New_Roman"/>
              </a:rPr>
              <a:t> : </a:t>
            </a:r>
            <a:r>
              <a:rPr b="1" lang="sr-Latn-RS" sz="3200" spc="-1" strike="noStrike">
                <a:solidFill>
                  <a:srgbClr val="ffff00"/>
                </a:solidFill>
                <a:latin typeface="Times_New_Roman"/>
              </a:rPr>
              <a:t>OSNOVNA STRUKTURA JE GLATKOMIŠIĆNA ĆEL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SIMPTOMI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100"/>
                </a:solidFill>
                <a:latin typeface="Times New Roman"/>
              </a:rPr>
              <a:t>ZAVISE OD LOKALIZAC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KRVAVLJENJ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BOL I PRITISAK NA OKOLNE ORG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BEZ SIMPTOMA 10-2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SEKUNDA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. ANEMIJA (UMOR, TAHIKARDI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GLAVOBOLJ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. TROMBOZE KOD VEĆIH MI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. TORZIJA DOVODI DO PERITON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. INFERTILITE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POBAČAJ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7T14:03:16Z</dcterms:created>
  <dc:creator>Microsoft</dc:creator>
  <dc:description/>
  <cp:keywords/>
  <dc:language>en-US</dc:language>
  <cp:lastModifiedBy>User</cp:lastModifiedBy>
  <dcterms:modified xsi:type="dcterms:W3CDTF">2016-02-02T12:52:03Z</dcterms:modified>
  <cp:revision>55</cp:revision>
  <dc:subject/>
  <dc:title>[OK U AKU[ERSTVU</dc:title>
</cp:coreProperties>
</file>